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699-36E7-405B-8D9B-E5F2900A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D72C-D7F7-4E2F-8743-7914E78F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D952-1B02-4834-8129-38BC8733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E5A4-465D-4072-8673-4FFD6C56E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3150-7F87-4303-B092-09913B01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0983-BE7F-47C5-8B88-5152BC49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BA22-2615-4FA8-AA0A-E5E8F83F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30AA-6F1E-4629-B683-3961C372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E9DA-DB6A-499B-844B-569A35A1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CEF3-E947-45AE-9A16-A8FD3496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ED88-E773-4DD2-A190-F1C9F3DC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D1F5-B4C7-4950-BFAA-9A64EF83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1E84-D2CF-4BD1-A941-2F2F2BAC8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measurement.ru/gk/electro/images/Image569.gif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ru.wikipedia.org/wiki/&#1048;&#1079;&#1086;&#1073;&#1088;&#1072;&#1078;&#1077;&#1085;&#1080;&#1077;:Hw-watt.jpg" TargetMode="External"/><Relationship Id="rId6" Type="http://schemas.openxmlformats.org/officeDocument/2006/relationships/image" Target="../media/image7.png"/><Relationship Id="rId7" Type="http://schemas.openxmlformats.org/officeDocument/2006/relationships/hyperlink" Target="http://ru.wikipedia.org/wiki/&#1048;&#1079;&#1086;&#1073;&#1088;&#1072;&#1078;&#1077;&#1085;&#1080;&#1077;:Papinengine.jpg" TargetMode="External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Природа - Горы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832360" y="907920"/>
            <a:ext cx="331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ш мир многообраз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с окружает множество о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244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62728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3200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40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48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2728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3200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35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56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59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164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4656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00360" y="4005360"/>
            <a:ext cx="3384360" cy="100836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Би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именьшая единица измерения, которую ввёл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лод Шенн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179280" y="4076640"/>
            <a:ext cx="19195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300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556000" y="134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иницы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56000" y="1916280"/>
            <a:ext cx="280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й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бай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304" name="" descr="Картинка 25 из 266689"/>
          <p:cNvPicPr/>
          <p:nvPr/>
        </p:nvPicPr>
        <p:blipFill>
          <a:blip r:embed="rId2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556000" y="1916280"/>
            <a:ext cx="576108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азывается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байт = 8 би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Кбайт (один килобайт) = 1024 бай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Мбайт (один мегабайт) = 1024 Кбай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Гбайт (один гигабайт) = 1024 Мбай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2124000" y="698400"/>
            <a:ext cx="702000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308" name=""/>
          <p:cNvSpPr/>
          <p:nvPr/>
        </p:nvSpPr>
        <p:spPr>
          <a:xfrm>
            <a:off x="2556000" y="1773360"/>
            <a:ext cx="431964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би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буква в клетке кроссвор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92360" y="1773360"/>
            <a:ext cx="504720" cy="50472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27280" y="3141720"/>
            <a:ext cx="417672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ба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символ, введенный с клави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Обои для компьютера"/>
          <p:cNvPicPr/>
          <p:nvPr/>
        </p:nvPicPr>
        <p:blipFill>
          <a:blip r:embed="rId2"/>
          <a:stretch/>
        </p:blipFill>
        <p:spPr>
          <a:xfrm>
            <a:off x="250920" y="2852640"/>
            <a:ext cx="197964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313" name=""/>
          <p:cNvSpPr/>
          <p:nvPr/>
        </p:nvSpPr>
        <p:spPr>
          <a:xfrm>
            <a:off x="2411280" y="2133720"/>
            <a:ext cx="518796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Кба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фотография в низком разреш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1280" y="3645000"/>
            <a:ext cx="513576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Мба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небольшая художественная кни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 "/>
          <p:cNvPicPr/>
          <p:nvPr/>
        </p:nvPicPr>
        <p:blipFill>
          <a:blip r:embed="rId2"/>
          <a:stretch/>
        </p:blipFill>
        <p:spPr>
          <a:xfrm>
            <a:off x="539640" y="1628640"/>
            <a:ext cx="1582920" cy="15829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539640" y="3573360"/>
            <a:ext cx="15843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627280" y="2205000"/>
            <a:ext cx="554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едавнем исследовании аналитики компании IDC попытались оценить общий объем цифровой информации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ерируемой в мире ежеднев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 пришли к выводу, что в прошлом году был создан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1 экзабай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61 миллиард гигабай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разнообразных данных - цифровых фотографий, видео, электронных писем, интернет-пейджинговых сообщений, звонков посредством IP-телефонии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6877080" y="260280"/>
            <a:ext cx="2016000" cy="9669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Картинка 45 из 149"/>
          <p:cNvPicPr/>
          <p:nvPr/>
        </p:nvPicPr>
        <p:blipFill>
          <a:blip r:embed="rId3"/>
          <a:stretch/>
        </p:blipFill>
        <p:spPr>
          <a:xfrm>
            <a:off x="108000" y="2349360"/>
            <a:ext cx="208764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708360" y="98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вод в би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08360" y="1628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байт = 12 * 8 = 96 (б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708360" y="2349360"/>
            <a:ext cx="33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Кб = 2 * 1024 * 8  = 16384 (б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708360" y="98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вод в би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08360" y="1628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байт = 12 * 8 = 96 (б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0836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п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1964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16360" y="249228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16720" y="2376360"/>
            <a:ext cx="576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708360" y="98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вод в бай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08360" y="1628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 бита = 24 : 8 = 3 (бай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0836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1964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п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16360" y="249228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16720" y="2243160"/>
            <a:ext cx="576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852640"/>
            <a:ext cx="2124000" cy="863640"/>
          </a:xfrm>
          <a:prstGeom prst="ellipse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Объ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1844640"/>
            <a:ext cx="2808360" cy="720720"/>
          </a:xfrm>
          <a:prstGeom prst="rect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Ве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64000" y="2852640"/>
            <a:ext cx="2808360" cy="720720"/>
          </a:xfrm>
          <a:prstGeom prst="rect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Энер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3860640"/>
            <a:ext cx="2808360" cy="720720"/>
          </a:xfrm>
          <a:prstGeom prst="rect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340000" y="2133720"/>
            <a:ext cx="1224000" cy="2158920"/>
            <a:chOff x="2340000" y="2133720"/>
            <a:chExt cx="1224000" cy="2158920"/>
          </a:xfrm>
        </p:grpSpPr>
        <p:sp>
          <p:nvSpPr>
            <p:cNvPr id="48" name=""/>
            <p:cNvSpPr/>
            <p:nvPr/>
          </p:nvSpPr>
          <p:spPr>
            <a:xfrm>
              <a:off x="2340000" y="3213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640" y="2133720"/>
              <a:ext cx="0" cy="21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71640" y="213372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71640" y="321300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71640" y="429264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484360" y="1773360"/>
            <a:ext cx="47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информационный объем сло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095600" y="18720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84360" y="3068640"/>
            <a:ext cx="53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ФОРМАТИКА – 11 символов, следовательно, это сообщение несет в себе информационный объем рав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*1 = 11 бай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*1*8= 88 би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2160" y="29973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340000" y="1341360"/>
            <a:ext cx="54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 школьных учебников емкость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0 Кбай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ожно разместить на трехдюймовой дискете, если объем трехдюймовой дискеты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44 М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95600" y="18720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84360" y="3573360"/>
            <a:ext cx="53294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Мбайт=1024 К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44Мбайт = 1,44*1024 = 1474,56 К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74,56 Кбайт / 350 Кбайт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учеб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2160" y="35002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988000" y="26028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ъём информационных нос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79280" y="1413000"/>
          <a:ext cx="5688000" cy="4032000"/>
        </p:xfrm>
        <a:graphic>
          <a:graphicData uri="http://schemas.openxmlformats.org/drawingml/2006/table">
            <a:tbl>
              <a:tblPr/>
              <a:tblGrid>
                <a:gridCol w="2845080"/>
                <a:gridCol w="28429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5" name="" descr="Картинка 37 из 5117"/>
          <p:cNvPicPr/>
          <p:nvPr/>
        </p:nvPicPr>
        <p:blipFill>
          <a:blip r:embed="rId2"/>
          <a:stretch/>
        </p:blipFill>
        <p:spPr>
          <a:xfrm>
            <a:off x="971640" y="1989000"/>
            <a:ext cx="1296720" cy="10922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900000" y="316872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1116000" y="4292640"/>
            <a:ext cx="10288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988000" y="26028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ъём информационных нос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79280" y="1413000"/>
          <a:ext cx="5688000" cy="4032000"/>
        </p:xfrm>
        <a:graphic>
          <a:graphicData uri="http://schemas.openxmlformats.org/drawingml/2006/table">
            <a:tbl>
              <a:tblPr/>
              <a:tblGrid>
                <a:gridCol w="2845080"/>
                <a:gridCol w="28429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44 М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0-120 Г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50 М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,7 Гбайт- 17 Г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0" name="" descr="Картинка 37 из 5117"/>
          <p:cNvPicPr/>
          <p:nvPr/>
        </p:nvPicPr>
        <p:blipFill>
          <a:blip r:embed="rId2"/>
          <a:stretch/>
        </p:blipFill>
        <p:spPr>
          <a:xfrm>
            <a:off x="971640" y="1989000"/>
            <a:ext cx="1296720" cy="10922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900000" y="316872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1116000" y="4292640"/>
            <a:ext cx="10288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2411280" y="2205000"/>
            <a:ext cx="6121440" cy="18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ва основная единица измерения информац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байт содержит 1 Кб информац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одсчитать количество информации, передаваемое в символьном сообщен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22480" y="35244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ы для самоконтр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Вещество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2089080" cy="1290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95280" y="2637000"/>
            <a:ext cx="1523880" cy="1904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498920" y="2276640"/>
            <a:ext cx="4645080" cy="100836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Грам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изначально определялся как масса 1 см³ воды при температуре 4 °C и давлении в 1 атмосфе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134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иницы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6000" y="1916280"/>
            <a:ext cx="280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л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тн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ат (0,2 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7080" y="4003560"/>
            <a:ext cx="4547160" cy="100836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Килограм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пределяется как м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алонного килограмма, хранящег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лате м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весов окол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риж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Энерг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4427640" y="2637000"/>
            <a:ext cx="3095640" cy="210564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Ват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диница названа в честь шотландско-ирландского изобретателя-механик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жеймса Уат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Ватта), создателя универсаль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ровой маши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134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иницы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6000" y="1916280"/>
            <a:ext cx="28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о́у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о́р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т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1454040" cy="180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Картинка 4 из 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3284640"/>
            <a:ext cx="2017800" cy="1947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Джеймс Уатт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34160" y="2708280"/>
            <a:ext cx="1509840" cy="208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Первая паровая машина Папена. 169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38560" y="3933720"/>
            <a:ext cx="776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69" name=""/>
          <p:cNvSpPr/>
          <p:nvPr/>
        </p:nvSpPr>
        <p:spPr>
          <a:xfrm>
            <a:off x="2556000" y="1773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556000" y="2349360"/>
            <a:ext cx="62672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Единицы измерения информ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73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2728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3200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35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48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2728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3200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35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5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51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56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9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4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05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62728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40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48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40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3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8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6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59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64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71640" y="3789360"/>
            <a:ext cx="3095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ак же пишутся программы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особых языках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из них простейшим самы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числится по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4656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44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62728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35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2728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3200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35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3200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35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40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43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51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56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59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64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3645000"/>
            <a:ext cx="3095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У тебя вопросов много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скажу тебе я с ке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ы в режиме диалог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ожешь сто решить проблем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чает без капризов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вай вопрос быстрей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т умный телевизор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ывается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4656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91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62728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35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48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3200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35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6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59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64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41520" y="3429000"/>
            <a:ext cx="38880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ут нам надо разобраться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чего же этот ящик?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в себя бумагу тащит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сейчас же буквы, точки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ятые – строчка к строчке –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ечатает в момент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чень нужный инструмен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ечатает картинку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овкий мастер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уйный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4656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4:58:26Z</dcterms:created>
  <dc:creator>User</dc:creator>
  <dc:description/>
  <dc:language>en-US</dc:language>
  <cp:lastModifiedBy>User</cp:lastModifiedBy>
  <dcterms:modified xsi:type="dcterms:W3CDTF">2008-01-30T18:46:57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